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11B-3B4A-4EE8-BCAE-0927CB502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6998-194C-414B-AD94-1CFC05A7B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D1-E5E4-47F0-BB51-D418B281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166-7CA2-4207-ACE0-5F47E4EE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60F-BD59-42CC-AB70-E636D964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D4D-CC44-47B4-88DC-8D482E52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F5D-14FE-4523-8903-43EE5E6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86D-8920-45F2-9561-D22901CA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202-35DD-4F57-A20A-1B623729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6E2-959A-4968-8FE0-B6AA4D93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248-1422-4F8B-8843-310173E6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1ED-ACE4-4387-9863-CAB4A8C6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77AD-FD8B-46E4-865F-2D1D0792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DAC-48F8-4DEA-8C93-9EF4D44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464C-5B39-4EA4-9621-91A6405B4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qnyc.org/NYC040844/image/Chromosome.gif&amp;imgrefurl=http://www.tqnyc.org/NYC040844/Mitosis.htm&amp;h=480&amp;w=542&amp;sz=148&amp;tbnid=zjqy5FXJzo4J:&amp;tbnh=115&amp;tbnw=130&amp;hl=en&amp;start=4&amp;prev=/images%3Fq%3Dchromosome%26svnum%3D10%26hl%3Den%26lr%3D%26sa%3DN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ology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1066680" y="228600"/>
          <a:ext cx="6886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"/>
                    <a:ext cx="688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DNA%20proton%20tunnelling2"/>
          <p:cNvPicPr/>
          <p:nvPr/>
        </p:nvPicPr>
        <p:blipFill>
          <a:blip r:embed="rId1"/>
          <a:stretch/>
        </p:blipFill>
        <p:spPr>
          <a:xfrm>
            <a:off x="457200" y="380880"/>
            <a:ext cx="365760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na-base%20pairs"/>
          <p:cNvPicPr/>
          <p:nvPr/>
        </p:nvPicPr>
        <p:blipFill>
          <a:blip r:embed="rId2"/>
          <a:stretch/>
        </p:blipFill>
        <p:spPr>
          <a:xfrm>
            <a:off x="4114800" y="457200"/>
            <a:ext cx="4809960" cy="6019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AtomLabeledLarge"/>
          <p:cNvPicPr/>
          <p:nvPr/>
        </p:nvPicPr>
        <p:blipFill>
          <a:blip r:embed="rId3"/>
          <a:stretch/>
        </p:blipFill>
        <p:spPr>
          <a:xfrm>
            <a:off x="2819520" y="304920"/>
            <a:ext cx="1404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a chromoso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c09_a"/>
          <p:cNvPicPr/>
          <p:nvPr/>
        </p:nvPicPr>
        <p:blipFill>
          <a:blip r:embed="rId1"/>
          <a:stretch/>
        </p:blipFill>
        <p:spPr>
          <a:xfrm>
            <a:off x="558720" y="838080"/>
            <a:ext cx="774720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“resting”, you cannot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nw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ed chrom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the cell is dividing, you can see the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nd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of two sister chromatids connected by a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hromos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6320" y="5394240"/>
            <a:ext cx="1625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in eukaryotic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period of time from the beginning of one cell division to the beginning of the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oubles its contents so that it is ready to divide into two completely independen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Cell Cyc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s of 4 pha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pying of chromos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nse growth and activity; new proteins and organelles are produc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est of the three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 phase – mitos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division of the ce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us and cytokin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ells do not move through the cell cycle at the same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236196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a developing embryo replicate rapidly- 3 min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time of cell cycle- 20 h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esophagus- 2-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small intestine- 1-2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ing of large intestine- 6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-120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 blood cells- 10hrs-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Cycle R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stops growing in G1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conditions are right, cell will leave G1 and go through S phase, G2, and M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lls stop going through the cell cycle.  They are permanently in the G1 stage (normal cell function).   This stage is referred to as G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diac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rve cells (mo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 which the cell divides into two independent cel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ughter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eukaryote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990720" y="4648320"/>
          <a:ext cx="688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688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028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29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0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38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9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41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47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53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4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56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46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45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44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43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62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63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051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0560" y="78480"/>
            <a:ext cx="5105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031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32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33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74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7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0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76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78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84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86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87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88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89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90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93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94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114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132" name="Text Box 1095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96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06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135" name="Text Box 1107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08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109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10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11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12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13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cell di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ded into four main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3200400" y="4648320"/>
          <a:ext cx="5591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48320"/>
                    <a:ext cx="5591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maller is B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r the cell becom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demands the cell places on its D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re trouble moving enough nutrients and wastes across the cel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est of the four ph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arance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f sister chromat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hed at the centrom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 undergoes sever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mbrane begins to break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c09_03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3962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http://www.biologycorner.com/resources/mitosis/mitosis_prophase.gif"/>
          <p:cNvPicPr/>
          <p:nvPr/>
        </p:nvPicPr>
        <p:blipFill>
          <a:blip r:embed="rId2"/>
          <a:stretch/>
        </p:blipFill>
        <p:spPr>
          <a:xfrm>
            <a:off x="7315200" y="4648320"/>
            <a:ext cx="162576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egins to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ies of microtubules that span the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is to pull chromatids a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attach to the spindle at the centrom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, spindle is created by the centr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, spindle is created between the cell w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do not have centri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centriole"/>
          <p:cNvPicPr/>
          <p:nvPr/>
        </p:nvPicPr>
        <p:blipFill>
          <a:blip r:embed="rId1"/>
          <a:stretch/>
        </p:blipFill>
        <p:spPr>
          <a:xfrm>
            <a:off x="6172200" y="449568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st phase of mit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line up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990720" y="3733920"/>
          <a:ext cx="71913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7191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7" name="Straight Arrow Connector 5"/>
          <p:cNvCxnSpPr/>
          <p:nvPr/>
        </p:nvCxnSpPr>
        <p:spPr>
          <a:xfrm flipH="1">
            <a:off x="4493520" y="3430080"/>
            <a:ext cx="3960" cy="38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omeres sp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r chromatids are pulled to the opposite ends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5" descr="http://www.brhs.ab.ca/courses/biology30/bpages/unit2/quiz/anaphase_1.gif"/>
          <p:cNvPicPr/>
          <p:nvPr/>
        </p:nvPicPr>
        <p:blipFill>
          <a:blip r:embed="rId1"/>
          <a:stretch/>
        </p:blipFill>
        <p:spPr>
          <a:xfrm>
            <a:off x="5334120" y="3886200"/>
            <a:ext cx="2867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ndle breaks 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membrane forms around the chromosomes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omes unwind to chromatin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" descr="http://www.ivy-rose.co.uk/Topics/Cell_Structures/Telophase_cIvyRose.jpg"/>
          <p:cNvPicPr/>
          <p:nvPr/>
        </p:nvPicPr>
        <p:blipFill>
          <a:blip r:embed="rId1"/>
          <a:stretch/>
        </p:blipFill>
        <p:spPr>
          <a:xfrm>
            <a:off x="5334120" y="380880"/>
            <a:ext cx="343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094200" y="198288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imal Cell M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back-arrow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71" name="Chapter 10A.mpg" descr=""/>
          <p:cNvPicPr/>
          <p:nvPr/>
        </p:nvPicPr>
        <p:blipFill>
          <a:blip r:embed="rId4"/>
          <a:stretch/>
        </p:blipFill>
        <p:spPr>
          <a:xfrm>
            <a:off x="704880" y="635040"/>
            <a:ext cx="7505640" cy="5629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the cytoplasm div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imals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 pinches in at the middle to create two new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la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ell plate is created in the middl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09_06"/>
          <p:cNvPicPr/>
          <p:nvPr/>
        </p:nvPicPr>
        <p:blipFill>
          <a:blip r:embed="rId1"/>
          <a:stretch/>
        </p:blipFill>
        <p:spPr>
          <a:xfrm>
            <a:off x="584280" y="762120"/>
            <a:ext cx="81025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hanging Mater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wastes, nutrients, gases takes place depends on the surfac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area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# of s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at which nutrients and gase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 and wastes are made depends on volume of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d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to Volume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 increases much faster than surface area when a cell is grow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materials cannot keep up with the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cells have a larger surface area to volume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there is more surface area for materials to fit i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 to Volume Rat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bio_ch10_6028"/>
          <p:cNvPicPr/>
          <p:nvPr/>
        </p:nvPicPr>
        <p:blipFill>
          <a:blip r:embed="rId1"/>
          <a:stretch/>
        </p:blipFill>
        <p:spPr>
          <a:xfrm>
            <a:off x="561960" y="1219320"/>
            <a:ext cx="8020080" cy="533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09480" y="449568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face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33520" y="52578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480" y="594360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 to Vol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whole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20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590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hapter 10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stay the same size, cells must div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plit in 2: “daughter cell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EXACT copies of each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L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fore dividing, the cell must duplicate everything (DNA &amp; organelles) so that everything is the s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karyotes are simpler (no organell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DNA is copied, cell splits in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ch new cell contains a copy of the DNA calle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inary f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 of asexual rep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30085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Division in Eu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3084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rs in st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)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u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) Division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) Division o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topla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27" descr="bio_ch10_4504"/>
          <p:cNvPicPr/>
          <p:nvPr/>
        </p:nvPicPr>
        <p:blipFill>
          <a:blip r:embed="rId1"/>
          <a:stretch/>
        </p:blipFill>
        <p:spPr>
          <a:xfrm>
            <a:off x="3352680" y="838080"/>
            <a:ext cx="545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romos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 that carry genetic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up of DNA and protein (hist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coils very tigh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 of coiling leads to whe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NA is visible or in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eukaryote has a characteris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chromosomes in th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us of each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- 4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g- 7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fly-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ato plant- 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- 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pergillus (fungus)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osophila (fly)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09_03"/>
          <p:cNvPicPr/>
          <p:nvPr/>
        </p:nvPicPr>
        <p:blipFill>
          <a:blip r:embed="rId1"/>
          <a:stretch/>
        </p:blipFill>
        <p:spPr>
          <a:xfrm>
            <a:off x="4724280" y="30481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21:37:34Z</dcterms:created>
  <dc:creator>Joanne Lilliendahl</dc:creator>
  <dc:description/>
  <dc:language>en-US</dc:language>
  <cp:lastModifiedBy>Preferred Customer</cp:lastModifiedBy>
  <dcterms:modified xsi:type="dcterms:W3CDTF">2010-03-23T10:04:33Z</dcterms:modified>
  <cp:revision>33</cp:revision>
  <dc:subject/>
  <dc:title>Slide 1</dc:title>
</cp:coreProperties>
</file>